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C1BF-6514-455B-9FB4-1EDE4D54D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BB7B-5CD8-44D1-AED0-9396B214E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5399-4C6B-4906-94EE-60697C965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80B8-6E0D-474F-9CD6-35CAB1E37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5396-B55B-427E-8753-329503FA8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223C-EE1F-4714-B8F9-2B614F6C24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0196-C890-405D-A6FD-CCBE55787B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DBDC-FEFB-40F7-BF96-2E8D6FD3F9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0989-A5F6-4C1E-B2D6-0E54F424C1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1E55-BE34-4EED-B03C-D989316E07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571FC-AE81-4F98-8DB6-F8BA520B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BE487-EB6B-4AE5-80FB-ADA54482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CC34D-EC95-4185-BE10-4D9809AA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9FB2B-0EE0-4BE3-99BB-C5F92C51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D8058-EE78-46B3-A778-6F1CE9A2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CF140-1D39-4E41-8863-955CE18C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A42C4-5A05-4C90-A97E-9F0A3A2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C674-AF59-4DEE-A7D8-FE60488B048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6AEA1-92A6-45FD-8173-B454355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F6647-6CB0-4187-A826-81B9380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DD897-B7AF-4797-818C-53A66B92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72A78-1204-4D37-A50B-9D67592C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C0B58-C548-4F8B-9286-004C49D7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2F97-4433-4B0F-BBE1-45C63A6302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55280" y="642600"/>
            <a:ext cx="7201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00080" y="1752120"/>
            <a:ext cx="695664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65160" y="149976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0008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65160" y="1752120"/>
            <a:ext cx="33948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0008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5232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704560" y="149976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0008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5232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704560" y="1752120"/>
            <a:ext cx="22399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c0052"/>
                </a:solidFill>
                <a:latin typeface="Segoe U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3B5-A1C5-46CE-8BCF-655838AF0141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1 Título"/>
          <p:cNvSpPr/>
          <p:nvPr/>
        </p:nvSpPr>
        <p:spPr>
          <a:xfrm>
            <a:off x="1403280" y="4292640"/>
            <a:ext cx="691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8 Rectángulo"/>
          <p:cNvSpPr/>
          <p:nvPr/>
        </p:nvSpPr>
        <p:spPr>
          <a:xfrm>
            <a:off x="7885080" y="0"/>
            <a:ext cx="1258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m 8" descr=""/>
          <p:cNvPicPr/>
          <p:nvPr/>
        </p:nvPicPr>
        <p:blipFill>
          <a:blip r:embed="rId3"/>
          <a:stretch/>
        </p:blipFill>
        <p:spPr>
          <a:xfrm>
            <a:off x="1044720" y="1414440"/>
            <a:ext cx="2663640" cy="1141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1403280" y="4292640"/>
            <a:ext cx="691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Título"/>
          <p:cNvSpPr/>
          <p:nvPr/>
        </p:nvSpPr>
        <p:spPr>
          <a:xfrm>
            <a:off x="1403280" y="5516640"/>
            <a:ext cx="6913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1 Título"/>
          <p:cNvSpPr/>
          <p:nvPr/>
        </p:nvSpPr>
        <p:spPr>
          <a:xfrm>
            <a:off x="1403280" y="4292640"/>
            <a:ext cx="691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 Título"/>
          <p:cNvSpPr/>
          <p:nvPr/>
        </p:nvSpPr>
        <p:spPr>
          <a:xfrm>
            <a:off x="1403280" y="5516640"/>
            <a:ext cx="6913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5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cdd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jmespinar\Documents\Blc Comunicación\Hermanas Hospitalarias\110111 Margen derecho PPT.jpg"/>
          <p:cNvPicPr/>
          <p:nvPr/>
        </p:nvPicPr>
        <p:blipFill>
          <a:blip r:embed="rId3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5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8cdd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Users\jmespinar\Documents\Blc Comunicación\Hermanas Hospitalarias\110111 Margen derecho PPT.jpg"/>
          <p:cNvPicPr/>
          <p:nvPr/>
        </p:nvPicPr>
        <p:blipFill>
          <a:blip r:embed="rId3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4"/>
          </p:nvPr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c0052"/>
                </a:solidFill>
                <a:latin typeface="Segoe U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C630-7160-4C19-ADC2-22DA5D826558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C:\Users\jmespinar\Documents\Blc Comunicación\Hermanas Hospitalarias\110111 Margen derecho PPT.jpg"/>
          <p:cNvPicPr/>
          <p:nvPr/>
        </p:nvPicPr>
        <p:blipFill>
          <a:blip r:embed="rId2"/>
          <a:stretch/>
        </p:blipFill>
        <p:spPr>
          <a:xfrm>
            <a:off x="8115480" y="0"/>
            <a:ext cx="102852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Imagem 5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1 Título"/>
          <p:cNvSpPr/>
          <p:nvPr/>
        </p:nvSpPr>
        <p:spPr>
          <a:xfrm>
            <a:off x="1403280" y="4292640"/>
            <a:ext cx="691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1 Título"/>
          <p:cNvSpPr/>
          <p:nvPr/>
        </p:nvSpPr>
        <p:spPr>
          <a:xfrm>
            <a:off x="1403280" y="5516640"/>
            <a:ext cx="6913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c0052"/>
                </a:solidFill>
                <a:latin typeface="Segoe UI"/>
              </a:rPr>
              <a:t>Click to edit the title text format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00080" y="1499760"/>
            <a:ext cx="6956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spcBef>
                <a:spcPts val="400"/>
              </a:spcBef>
              <a:buClr>
                <a:srgbClr val="78c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Click to edit the outline text format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141120" indent="-54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con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2" marL="217080" indent="-43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Third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3" marL="303840" indent="-43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our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4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Fif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5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ix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6" marL="390600" indent="-43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cdd1"/>
                </a:solidFill>
                <a:latin typeface="Segoe UI"/>
              </a:rPr>
              <a:t>Seventh Outline Level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02920" y="3863520"/>
            <a:ext cx="69138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portada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03280" y="4437000"/>
            <a:ext cx="662472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c0052"/>
                </a:solidFill>
                <a:latin typeface="Segoe UI"/>
              </a:rPr>
              <a:t>Subtítulo portada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03280" y="5446800"/>
            <a:ext cx="28814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c0052"/>
                </a:solidFill>
                <a:latin typeface="Segoe UI"/>
              </a:rPr>
              <a:t>Mes / Ano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nivel 1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98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f7f7f"/>
                </a:solidFill>
                <a:latin typeface="Segoe UI"/>
              </a:rPr>
              <a:t>Título nivel 2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971280" y="2060640"/>
            <a:ext cx="69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Contenido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1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2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3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4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00160">
              <a:lnSpc>
                <a:spcPct val="100000"/>
              </a:lnSpc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Enumeración contenido 5-Segoe UI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4 Marcador de número de diapositiva"/>
          <p:cNvSpPr/>
          <p:nvPr/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C9BF-A300-4A79-8611-4CA2DB36E040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5640" y="642600"/>
            <a:ext cx="3672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nivel 1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f7f7f"/>
                </a:solidFill>
                <a:latin typeface="Segoe UI"/>
              </a:rPr>
              <a:t>Titulo nivel 2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71640" y="2060640"/>
            <a:ext cx="3456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7f7f7f"/>
                </a:solidFill>
                <a:latin typeface="Segoe UI"/>
              </a:rPr>
              <a:t>Contenido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pic>
        <p:nvPicPr>
          <p:cNvPr id="342" name="9 Marcador de posición de imagen" descr="34566165.jpg"/>
          <p:cNvPicPr/>
          <p:nvPr/>
        </p:nvPicPr>
        <p:blipFill>
          <a:blip r:embed="rId1"/>
          <a:srcRect l="13675" t="0" r="13675" b="0"/>
          <a:stretch/>
        </p:blipFill>
        <p:spPr>
          <a:xfrm>
            <a:off x="4859280" y="0"/>
            <a:ext cx="331308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4 Marcador de número de diapositiva"/>
          <p:cNvSpPr/>
          <p:nvPr/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7AEC-4263-4328-8330-DE0E798A2D65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280" y="642600"/>
            <a:ext cx="7201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c0052"/>
                </a:solidFill>
                <a:latin typeface="Segoe UI"/>
              </a:rPr>
              <a:t>Título nivel 1-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98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f7f7f"/>
                </a:solidFill>
                <a:latin typeface="Segoe UI"/>
              </a:rPr>
              <a:t>Título nivel 2-Segoe UI 16</a:t>
            </a:r>
            <a:endParaRPr b="1" lang="en-US" sz="1600" spc="-1" strike="noStrike">
              <a:solidFill>
                <a:srgbClr val="78cdd1"/>
              </a:solidFill>
              <a:latin typeface="Segoe U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971280" y="2060640"/>
            <a:ext cx="698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347" name="4 Marcador de número de diapositiva"/>
          <p:cNvSpPr/>
          <p:nvPr/>
        </p:nvSpPr>
        <p:spPr>
          <a:xfrm>
            <a:off x="8388360" y="635652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30D-8C4F-4299-AAEC-D8AF7ACF717F}" type="slidenum">
              <a:rPr b="0" lang="es-ES_tradnl" sz="1100" spc="-1" strike="noStrike">
                <a:solidFill>
                  <a:srgbClr val="8c0052"/>
                </a:solidFill>
                <a:latin typeface="Segoe U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0" y="3863520"/>
            <a:ext cx="4248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Segoe UI"/>
              </a:rPr>
              <a:t>Obrigado</a:t>
            </a:r>
            <a:r>
              <a:rPr b="1" lang="es-ES" sz="2100" spc="-1" strike="noStrike">
                <a:solidFill>
                  <a:srgbClr val="ffffff"/>
                </a:solidFill>
                <a:latin typeface="Segoe UI"/>
              </a:rPr>
              <a:t>. Segoe UI 21</a:t>
            </a:r>
            <a:endParaRPr b="1" lang="en-US" sz="2100" spc="-1" strike="noStrike">
              <a:solidFill>
                <a:srgbClr val="8c0052"/>
              </a:solidFill>
              <a:latin typeface="Segoe U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4:25:41Z</dcterms:created>
  <dc:creator>BLC Comunicación</dc:creator>
  <dc:description/>
  <dc:language>en-US</dc:language>
  <cp:lastModifiedBy>Suporte</cp:lastModifiedBy>
  <dcterms:modified xsi:type="dcterms:W3CDTF">2018-05-09T16:51:21Z</dcterms:modified>
  <cp:revision>976</cp:revision>
  <dc:subject/>
  <dc:title>Diapositiva 1</dc:title>
</cp:coreProperties>
</file>