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22137-9EBD-43B4-BAB2-72C0AA17D4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695664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00080" y="1752120"/>
            <a:ext cx="695664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F7BED-2531-4448-AAD9-6791F21743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5160" y="149976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00080" y="175212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65160" y="175212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1D01C-5A81-4D9D-84E6-DB261B3FAD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22399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52320" y="1499760"/>
            <a:ext cx="22399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04560" y="1499760"/>
            <a:ext cx="22399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00080" y="1752120"/>
            <a:ext cx="22399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52320" y="1752120"/>
            <a:ext cx="22399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704560" y="1752120"/>
            <a:ext cx="22399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07802-5EF2-4B3B-8691-212B51DAEF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00080" y="1499760"/>
            <a:ext cx="695664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695664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3394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65160" y="1499760"/>
            <a:ext cx="3394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55280" y="642600"/>
            <a:ext cx="7201080" cy="19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65160" y="1499760"/>
            <a:ext cx="3394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00080" y="175212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00080" y="1499760"/>
            <a:ext cx="695664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39A66-DD80-4B9D-AE76-7E1439A1EB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3394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65160" y="149976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5160" y="175212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65160" y="149976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00080" y="1752120"/>
            <a:ext cx="695664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695664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00080" y="1752120"/>
            <a:ext cx="695664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5160" y="149976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00080" y="175212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65160" y="175212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22399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52320" y="1499760"/>
            <a:ext cx="22399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04560" y="1499760"/>
            <a:ext cx="22399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00080" y="1752120"/>
            <a:ext cx="22399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52320" y="1752120"/>
            <a:ext cx="22399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04560" y="1752120"/>
            <a:ext cx="22399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00080" y="1499760"/>
            <a:ext cx="695664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695664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3394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65160" y="1499760"/>
            <a:ext cx="3394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695664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3BE40-50C5-4606-BD94-845229AFAAE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755280" y="642600"/>
            <a:ext cx="7201080" cy="19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65160" y="1499760"/>
            <a:ext cx="3394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00080" y="175212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3394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65160" y="149976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65160" y="175212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65160" y="149976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00080" y="1752120"/>
            <a:ext cx="695664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695664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000080" y="1752120"/>
            <a:ext cx="695664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65160" y="149976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00080" y="175212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65160" y="175212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22399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52320" y="1499760"/>
            <a:ext cx="22399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704560" y="1499760"/>
            <a:ext cx="22399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000080" y="1752120"/>
            <a:ext cx="22399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52320" y="1752120"/>
            <a:ext cx="22399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704560" y="1752120"/>
            <a:ext cx="22399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000080" y="1499760"/>
            <a:ext cx="695664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695664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3394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65160" y="1499760"/>
            <a:ext cx="3394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6845B-9283-4D15-9636-88CED2D5A68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3394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65160" y="1499760"/>
            <a:ext cx="3394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755280" y="642600"/>
            <a:ext cx="7201080" cy="19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65160" y="1499760"/>
            <a:ext cx="3394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000080" y="175212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3394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65160" y="149976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5160" y="175212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65160" y="149976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000080" y="1752120"/>
            <a:ext cx="695664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695664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000080" y="1752120"/>
            <a:ext cx="695664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65160" y="149976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000080" y="175212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65160" y="175212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22399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52320" y="1499760"/>
            <a:ext cx="22399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704560" y="1499760"/>
            <a:ext cx="22399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000080" y="1752120"/>
            <a:ext cx="22399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352320" y="1752120"/>
            <a:ext cx="22399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704560" y="1752120"/>
            <a:ext cx="22399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E6A49-640F-4633-960B-5DF694EF67D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000080" y="1499760"/>
            <a:ext cx="695664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695664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3394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65160" y="1499760"/>
            <a:ext cx="3394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755280" y="642600"/>
            <a:ext cx="7201080" cy="19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65160" y="1499760"/>
            <a:ext cx="3394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000080" y="175212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3394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65160" y="149976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65160" y="175212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65160" y="149976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000080" y="1752120"/>
            <a:ext cx="695664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695664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000080" y="1752120"/>
            <a:ext cx="695664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65160" y="149976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000080" y="175212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65160" y="175212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55280" y="642600"/>
            <a:ext cx="7201080" cy="19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A5BC9-A424-4AAF-889E-530B4ADD21C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22399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352320" y="1499760"/>
            <a:ext cx="22399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704560" y="1499760"/>
            <a:ext cx="22399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1000080" y="1752120"/>
            <a:ext cx="22399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352320" y="1752120"/>
            <a:ext cx="22399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704560" y="1752120"/>
            <a:ext cx="22399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000080" y="1499760"/>
            <a:ext cx="695664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695664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3394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65160" y="1499760"/>
            <a:ext cx="3394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755280" y="642600"/>
            <a:ext cx="7201080" cy="19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65160" y="1499760"/>
            <a:ext cx="3394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000080" y="175212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3394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65160" y="149976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65160" y="175212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65160" y="149976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000080" y="1752120"/>
            <a:ext cx="695664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65160" y="1499760"/>
            <a:ext cx="3394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00080" y="175212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A3566-0396-498D-A2B9-B3C6FDFCF56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695664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1000080" y="1752120"/>
            <a:ext cx="695664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65160" y="149976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000080" y="175212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65160" y="175212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22399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352320" y="1499760"/>
            <a:ext cx="22399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704560" y="1499760"/>
            <a:ext cx="22399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1000080" y="1752120"/>
            <a:ext cx="22399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352320" y="1752120"/>
            <a:ext cx="22399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704560" y="1752120"/>
            <a:ext cx="22399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C709D0-F9B8-4DC9-A936-29044B8DA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000080" y="1499760"/>
            <a:ext cx="695664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ED42FA-554B-453D-813D-C9435B104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695664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0B066D-3EFB-45C5-80A2-76B785470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3394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65160" y="1499760"/>
            <a:ext cx="3394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1AC769-FA25-4C9D-BB0D-C92D31C0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EFA143-87CD-4124-A37A-9F4441932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755280" y="642600"/>
            <a:ext cx="7201080" cy="19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8FE5F5-E22C-4D7E-A345-C0C3C67CB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65160" y="1499760"/>
            <a:ext cx="3394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000080" y="175212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8C0191-EB4F-49F6-8E2D-8AA54B52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3394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65160" y="149976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5160" y="175212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D14AA-038B-4D45-9C0C-ACA88BEE438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3394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65160" y="149976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65160" y="175212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8F46FB-F86D-455D-B03E-62B6CD5C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65160" y="149976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000080" y="1752120"/>
            <a:ext cx="695664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AC3070-4314-4CF3-91D9-CCFB0DDF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695664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1000080" y="1752120"/>
            <a:ext cx="695664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478FE9-4DF6-46A1-9858-98031C9D3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65160" y="149976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000080" y="175212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65160" y="175212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3643DD-07D7-44D4-8A21-962B7EAFC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22399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352320" y="1499760"/>
            <a:ext cx="22399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704560" y="1499760"/>
            <a:ext cx="22399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1000080" y="1752120"/>
            <a:ext cx="22399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352320" y="1752120"/>
            <a:ext cx="22399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704560" y="1752120"/>
            <a:ext cx="22399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3247A3-28B5-4D9A-BFE7-26A71FCDA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000080" y="1499760"/>
            <a:ext cx="695664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695664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3394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65160" y="1499760"/>
            <a:ext cx="3394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65160" y="149976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00080" y="1752120"/>
            <a:ext cx="695664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75D57-BAB6-4117-A532-05CC8DC87D9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755280" y="642600"/>
            <a:ext cx="7201080" cy="19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65160" y="1499760"/>
            <a:ext cx="3394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000080" y="175212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3394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65160" y="149976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5160" y="175212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65160" y="149976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000080" y="1752120"/>
            <a:ext cx="695664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695664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1000080" y="1752120"/>
            <a:ext cx="695664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65160" y="149976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000080" y="175212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65160" y="175212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22399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352320" y="1499760"/>
            <a:ext cx="22399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704560" y="1499760"/>
            <a:ext cx="22399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1000080" y="1752120"/>
            <a:ext cx="22399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352320" y="1752120"/>
            <a:ext cx="22399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5704560" y="1752120"/>
            <a:ext cx="22399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Users\jmespinar\Documents\Blc Comunicación\Hermanas Hospitalarias\110111 Margen derecho PPT.jpg"/>
          <p:cNvPicPr/>
          <p:nvPr/>
        </p:nvPicPr>
        <p:blipFill>
          <a:blip r:embed="rId2"/>
          <a:stretch/>
        </p:blipFill>
        <p:spPr>
          <a:xfrm>
            <a:off x="8115480" y="0"/>
            <a:ext cx="10285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8c0052"/>
                </a:solidFill>
                <a:latin typeface="Segoe UI"/>
              </a:rPr>
              <a:t>Click to edit the title text format</a:t>
            </a: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00080" y="1499760"/>
            <a:ext cx="695664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marL="65160" indent="-65160">
              <a:spcBef>
                <a:spcPts val="400"/>
              </a:spcBef>
              <a:buClr>
                <a:srgbClr val="78c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Click to edit the outline text format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 lvl="1" marL="141120" indent="-540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Second Outline Level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 lvl="2" marL="217080" indent="-43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Third Outline Level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 lvl="3" marL="303840" indent="-43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Fourth Outline Level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 lvl="4" marL="390600" indent="-43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Fifth Outline Level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 lvl="5" marL="390600" indent="-43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Sixth Outline Level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 lvl="6" marL="390600" indent="-43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Seventh Outline Level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388360" y="6356520"/>
            <a:ext cx="50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8c0052"/>
                </a:solidFill>
                <a:latin typeface="Segoe UI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AB50C-48A7-4E0F-AE72-20AA29760902}" type="slidenum">
              <a:rPr b="0" lang="es-ES_tradnl" sz="1100" spc="-1" strike="noStrike">
                <a:solidFill>
                  <a:srgbClr val="8c0052"/>
                </a:solidFill>
                <a:latin typeface="Segoe UI"/>
                <a:ea typeface="Segoe U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3" descr="C:\Users\jmespinar\Documents\Blc Comunicación\Hermanas Hospitalarias\110111 Margen derecho PPT.jpg"/>
          <p:cNvPicPr/>
          <p:nvPr/>
        </p:nvPicPr>
        <p:blipFill>
          <a:blip r:embed="rId2"/>
          <a:stretch/>
        </p:blipFill>
        <p:spPr>
          <a:xfrm>
            <a:off x="8115480" y="0"/>
            <a:ext cx="102852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1 Título"/>
          <p:cNvSpPr/>
          <p:nvPr/>
        </p:nvSpPr>
        <p:spPr>
          <a:xfrm>
            <a:off x="1403280" y="4292640"/>
            <a:ext cx="6913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8 Rectángulo"/>
          <p:cNvSpPr/>
          <p:nvPr/>
        </p:nvSpPr>
        <p:spPr>
          <a:xfrm>
            <a:off x="7885080" y="0"/>
            <a:ext cx="12589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Imagem 8" descr=""/>
          <p:cNvPicPr/>
          <p:nvPr/>
        </p:nvPicPr>
        <p:blipFill>
          <a:blip r:embed="rId3"/>
          <a:stretch/>
        </p:blipFill>
        <p:spPr>
          <a:xfrm>
            <a:off x="1044720" y="1414440"/>
            <a:ext cx="2663640" cy="1141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8c0052"/>
                </a:solidFill>
                <a:latin typeface="Segoe UI"/>
              </a:rPr>
              <a:t>Click to edit the title text format</a:t>
            </a: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000080" y="1499760"/>
            <a:ext cx="695664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marL="65160" indent="-65160">
              <a:spcBef>
                <a:spcPts val="400"/>
              </a:spcBef>
              <a:buClr>
                <a:srgbClr val="78c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Click to edit the outline text format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 lvl="1" marL="141120" indent="-540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Second Outline Level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 lvl="2" marL="217080" indent="-43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Third Outline Level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 lvl="3" marL="303840" indent="-43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Fourth Outline Level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 lvl="4" marL="390600" indent="-43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Fifth Outline Level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 lvl="5" marL="390600" indent="-43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Sixth Outline Level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 lvl="6" marL="390600" indent="-43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Seventh Outline Level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C:\Users\jmespinar\Documents\Blc Comunicación\Hermanas Hospitalarias\110111 Margen derecho PPT.jpg"/>
          <p:cNvPicPr/>
          <p:nvPr/>
        </p:nvPicPr>
        <p:blipFill>
          <a:blip r:embed="rId2"/>
          <a:stretch/>
        </p:blipFill>
        <p:spPr>
          <a:xfrm>
            <a:off x="8115480" y="0"/>
            <a:ext cx="102852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Imagem 5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1 Título"/>
          <p:cNvSpPr/>
          <p:nvPr/>
        </p:nvSpPr>
        <p:spPr>
          <a:xfrm>
            <a:off x="1403280" y="4292640"/>
            <a:ext cx="6913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1 Título"/>
          <p:cNvSpPr/>
          <p:nvPr/>
        </p:nvSpPr>
        <p:spPr>
          <a:xfrm>
            <a:off x="1403280" y="5516640"/>
            <a:ext cx="6913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8c0052"/>
                </a:solidFill>
                <a:latin typeface="Segoe UI"/>
              </a:rPr>
              <a:t>Click to edit the title text format</a:t>
            </a: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000080" y="1499760"/>
            <a:ext cx="695664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marL="65160" indent="-65160">
              <a:spcBef>
                <a:spcPts val="400"/>
              </a:spcBef>
              <a:buClr>
                <a:srgbClr val="78c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Click to edit the outline text format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 lvl="1" marL="141120" indent="-540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Second Outline Level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 lvl="2" marL="217080" indent="-43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Third Outline Level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 lvl="3" marL="303840" indent="-43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Fourth Outline Level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 lvl="4" marL="390600" indent="-43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Fifth Outline Level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 lvl="5" marL="390600" indent="-43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Sixth Outline Level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 lvl="6" marL="390600" indent="-43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Seventh Outline Level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3" descr="C:\Users\jmespinar\Documents\Blc Comunicación\Hermanas Hospitalarias\110111 Margen derecho PPT.jpg"/>
          <p:cNvPicPr/>
          <p:nvPr/>
        </p:nvPicPr>
        <p:blipFill>
          <a:blip r:embed="rId2"/>
          <a:stretch/>
        </p:blipFill>
        <p:spPr>
          <a:xfrm>
            <a:off x="8115480" y="0"/>
            <a:ext cx="102852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Imagem 5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1 Título"/>
          <p:cNvSpPr/>
          <p:nvPr/>
        </p:nvSpPr>
        <p:spPr>
          <a:xfrm>
            <a:off x="1403280" y="4292640"/>
            <a:ext cx="6913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1 Título"/>
          <p:cNvSpPr/>
          <p:nvPr/>
        </p:nvSpPr>
        <p:spPr>
          <a:xfrm>
            <a:off x="1403280" y="5516640"/>
            <a:ext cx="6913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8c0052"/>
                </a:solidFill>
                <a:latin typeface="Segoe UI"/>
              </a:rPr>
              <a:t>Click to edit the title text format</a:t>
            </a: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000080" y="1499760"/>
            <a:ext cx="695664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marL="65160" indent="-65160">
              <a:spcBef>
                <a:spcPts val="400"/>
              </a:spcBef>
              <a:buClr>
                <a:srgbClr val="78c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Click to edit the outline text format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 lvl="1" marL="141120" indent="-540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Second Outline Level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 lvl="2" marL="217080" indent="-43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Third Outline Level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 lvl="3" marL="303840" indent="-43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Fourth Outline Level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 lvl="4" marL="390600" indent="-43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Fifth Outline Level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 lvl="5" marL="390600" indent="-43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Sixth Outline Level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 lvl="6" marL="390600" indent="-43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Seventh Outline Level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3" descr="C:\Users\jmespinar\Documents\Blc Comunicación\Hermanas Hospitalarias\110111 Margen derecho PPT.jpg"/>
          <p:cNvPicPr/>
          <p:nvPr/>
        </p:nvPicPr>
        <p:blipFill>
          <a:blip r:embed="rId2"/>
          <a:stretch/>
        </p:blipFill>
        <p:spPr>
          <a:xfrm>
            <a:off x="8115480" y="0"/>
            <a:ext cx="102852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5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8cdd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" descr="C:\Users\jmespinar\Documents\Blc Comunicación\Hermanas Hospitalarias\110111 Margen derecho PPT.jpg"/>
          <p:cNvPicPr/>
          <p:nvPr/>
        </p:nvPicPr>
        <p:blipFill>
          <a:blip r:embed="rId3"/>
          <a:stretch/>
        </p:blipFill>
        <p:spPr>
          <a:xfrm>
            <a:off x="8115480" y="0"/>
            <a:ext cx="102852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8c0052"/>
                </a:solidFill>
                <a:latin typeface="Segoe UI"/>
              </a:rPr>
              <a:t>Click to edit the title text format</a:t>
            </a: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1000080" y="1499760"/>
            <a:ext cx="695664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marL="65160" indent="-65160">
              <a:spcBef>
                <a:spcPts val="400"/>
              </a:spcBef>
              <a:buClr>
                <a:srgbClr val="78c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Click to edit the outline text format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 lvl="1" marL="141120" indent="-540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Second Outline Level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 lvl="2" marL="217080" indent="-43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Third Outline Level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 lvl="3" marL="303840" indent="-43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Fourth Outline Level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 lvl="4" marL="390600" indent="-43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Fifth Outline Level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 lvl="5" marL="390600" indent="-43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Sixth Outline Level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 lvl="6" marL="390600" indent="-43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Seventh Outline Level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3" descr="C:\Users\jmespinar\Documents\Blc Comunicación\Hermanas Hospitalarias\110111 Margen derecho PPT.jpg"/>
          <p:cNvPicPr/>
          <p:nvPr/>
        </p:nvPicPr>
        <p:blipFill>
          <a:blip r:embed="rId2"/>
          <a:stretch/>
        </p:blipFill>
        <p:spPr>
          <a:xfrm>
            <a:off x="8115480" y="0"/>
            <a:ext cx="102852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5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8cdd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3" descr="C:\Users\jmespinar\Documents\Blc Comunicación\Hermanas Hospitalarias\110111 Margen derecho PPT.jpg"/>
          <p:cNvPicPr/>
          <p:nvPr/>
        </p:nvPicPr>
        <p:blipFill>
          <a:blip r:embed="rId3"/>
          <a:stretch/>
        </p:blipFill>
        <p:spPr>
          <a:xfrm>
            <a:off x="8115480" y="0"/>
            <a:ext cx="102852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8c0052"/>
                </a:solidFill>
                <a:latin typeface="Segoe UI"/>
              </a:rPr>
              <a:t>Click to edit the title text format</a:t>
            </a: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00080" y="1499760"/>
            <a:ext cx="695664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marL="65160" indent="-65160">
              <a:spcBef>
                <a:spcPts val="400"/>
              </a:spcBef>
              <a:buClr>
                <a:srgbClr val="78c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Click to edit the outline text format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 lvl="1" marL="141120" indent="-540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Second Outline Level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 lvl="2" marL="217080" indent="-43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Third Outline Level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 lvl="3" marL="303840" indent="-43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Fourth Outline Level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 lvl="4" marL="390600" indent="-43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Fifth Outline Level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 lvl="5" marL="390600" indent="-43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Sixth Outline Level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 lvl="6" marL="390600" indent="-43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Seventh Outline Level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3" descr="C:\Users\jmespinar\Documents\Blc Comunicación\Hermanas Hospitalarias\110111 Margen derecho PPT.jpg"/>
          <p:cNvPicPr/>
          <p:nvPr/>
        </p:nvPicPr>
        <p:blipFill>
          <a:blip r:embed="rId2"/>
          <a:stretch/>
        </p:blipFill>
        <p:spPr>
          <a:xfrm>
            <a:off x="8115480" y="0"/>
            <a:ext cx="1028520" cy="685800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8c0052"/>
                </a:solidFill>
                <a:latin typeface="Segoe UI"/>
              </a:rPr>
              <a:t>Click to edit the title text format</a:t>
            </a: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1000080" y="1499760"/>
            <a:ext cx="695664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marL="65160" indent="-65160">
              <a:spcBef>
                <a:spcPts val="400"/>
              </a:spcBef>
              <a:buClr>
                <a:srgbClr val="78c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Click to edit the outline text format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 lvl="1" marL="141120" indent="-540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Second Outline Level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 lvl="2" marL="217080" indent="-43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Third Outline Level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 lvl="3" marL="303840" indent="-43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Fourth Outline Level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 lvl="4" marL="390600" indent="-43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Fifth Outline Level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 lvl="5" marL="390600" indent="-43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Sixth Outline Level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 lvl="6" marL="390600" indent="-43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Seventh Outline Level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4"/>
          </p:nvPr>
        </p:nvSpPr>
        <p:spPr>
          <a:xfrm>
            <a:off x="8388360" y="6356520"/>
            <a:ext cx="50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8c0052"/>
                </a:solidFill>
                <a:latin typeface="Segoe UI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228BC-0FBB-413D-9DEC-923DE8ADA2B1}" type="slidenum">
              <a:rPr b="0" lang="es-ES_tradnl" sz="1100" spc="-1" strike="noStrike">
                <a:solidFill>
                  <a:srgbClr val="8c0052"/>
                </a:solidFill>
                <a:latin typeface="Segoe UI"/>
                <a:ea typeface="Segoe U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3" descr="C:\Users\jmespinar\Documents\Blc Comunicación\Hermanas Hospitalarias\110111 Margen derecho PPT.jpg"/>
          <p:cNvPicPr/>
          <p:nvPr/>
        </p:nvPicPr>
        <p:blipFill>
          <a:blip r:embed="rId2"/>
          <a:stretch/>
        </p:blipFill>
        <p:spPr>
          <a:xfrm>
            <a:off x="8115480" y="0"/>
            <a:ext cx="1028520" cy="6858000"/>
          </a:xfrm>
          <a:prstGeom prst="rect">
            <a:avLst/>
          </a:prstGeom>
          <a:ln w="0">
            <a:noFill/>
          </a:ln>
        </p:spPr>
      </p:pic>
      <p:pic>
        <p:nvPicPr>
          <p:cNvPr id="291" name="Imagem 5" descr=""/>
          <p:cNvPicPr/>
          <p:nvPr/>
        </p:nvPicPr>
        <p:blipFill>
          <a:blip r:embed="rId3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292" name="1 Título"/>
          <p:cNvSpPr/>
          <p:nvPr/>
        </p:nvSpPr>
        <p:spPr>
          <a:xfrm>
            <a:off x="1403280" y="4292640"/>
            <a:ext cx="6913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1 Título"/>
          <p:cNvSpPr/>
          <p:nvPr/>
        </p:nvSpPr>
        <p:spPr>
          <a:xfrm>
            <a:off x="1403280" y="5516640"/>
            <a:ext cx="6913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8c0052"/>
                </a:solidFill>
                <a:latin typeface="Segoe UI"/>
              </a:rPr>
              <a:t>Click to edit the title text format</a:t>
            </a: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00080" y="1499760"/>
            <a:ext cx="695664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marL="65160" indent="-65160">
              <a:spcBef>
                <a:spcPts val="400"/>
              </a:spcBef>
              <a:buClr>
                <a:srgbClr val="78c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Click to edit the outline text format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 lvl="1" marL="141120" indent="-540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Second Outline Level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 lvl="2" marL="217080" indent="-43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Third Outline Level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 lvl="3" marL="303840" indent="-43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Fourth Outline Level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 lvl="4" marL="390600" indent="-43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Fifth Outline Level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 lvl="5" marL="390600" indent="-43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Sixth Outline Level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 lvl="6" marL="390600" indent="-43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Seventh Outline Level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02920" y="3863520"/>
            <a:ext cx="69138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8c0052"/>
                </a:solidFill>
                <a:latin typeface="Segoe UI"/>
              </a:rPr>
              <a:t>Título portada-Segoe UI 21</a:t>
            </a: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03280" y="4437000"/>
            <a:ext cx="6624720" cy="2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c0052"/>
                </a:solidFill>
                <a:latin typeface="Segoe UI"/>
              </a:rPr>
              <a:t>Subtítulo portada-Segoe UI 16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1403280" y="5446800"/>
            <a:ext cx="2881440" cy="2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c0052"/>
                </a:solidFill>
                <a:latin typeface="Segoe UI"/>
              </a:rPr>
              <a:t>Mes / Ano-Segoe UI 16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8c0052"/>
                </a:solidFill>
                <a:latin typeface="Segoe UI"/>
              </a:rPr>
              <a:t>Título nivel 1-Segoe UI 21</a:t>
            </a: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71280" y="1484280"/>
            <a:ext cx="698508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7f7f7f"/>
                </a:solidFill>
                <a:latin typeface="Segoe UI"/>
              </a:rPr>
              <a:t>Título nivel 2-Segoe UI 16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971280" y="2060640"/>
            <a:ext cx="69850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600" spc="-1" strike="noStrike">
              <a:solidFill>
                <a:srgbClr val="7f7f7f"/>
              </a:solidFill>
              <a:latin typeface="Segoe UI"/>
            </a:endParaRPr>
          </a:p>
        </p:txBody>
      </p:sp>
      <p:sp>
        <p:nvSpPr>
          <p:cNvPr id="370" name="4 Marcador de número de diapositiva"/>
          <p:cNvSpPr/>
          <p:nvPr/>
        </p:nvSpPr>
        <p:spPr>
          <a:xfrm>
            <a:off x="8388360" y="6356520"/>
            <a:ext cx="50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1DA4E-6FD5-469D-AEF4-36EE03D8AB31}" type="slidenum">
              <a:rPr b="0" lang="es-ES_tradnl" sz="1100" spc="-1" strike="noStrike">
                <a:solidFill>
                  <a:srgbClr val="8c0052"/>
                </a:solidFill>
                <a:latin typeface="Segoe UI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0" y="3863520"/>
            <a:ext cx="42480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ffffff"/>
                </a:solidFill>
                <a:latin typeface="Segoe UI"/>
              </a:rPr>
              <a:t>Obrigado</a:t>
            </a:r>
            <a:r>
              <a:rPr b="1" lang="es-ES" sz="2100" spc="-1" strike="noStrike">
                <a:solidFill>
                  <a:srgbClr val="ffffff"/>
                </a:solidFill>
                <a:latin typeface="Segoe UI"/>
              </a:rPr>
              <a:t>. Segoe UI 21</a:t>
            </a: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02920" y="3863520"/>
            <a:ext cx="698508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ffffff"/>
                </a:solidFill>
                <a:latin typeface="Segoe UI"/>
              </a:rPr>
              <a:t>Título portada-Segoe UI 21</a:t>
            </a: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402920" y="4436640"/>
            <a:ext cx="698508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Segoe UI"/>
              </a:rPr>
              <a:t>Subtítulo presentación-Segoe UI 21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1403280" y="5516280"/>
            <a:ext cx="288144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Segoe UI"/>
              </a:rPr>
              <a:t>Mes / Año-Segoe UI 21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pic>
        <p:nvPicPr>
          <p:cNvPr id="338" name="9 Marcador de posición de imagen" descr="34590707.jpg"/>
          <p:cNvPicPr/>
          <p:nvPr/>
        </p:nvPicPr>
        <p:blipFill>
          <a:blip r:embed="rId1"/>
          <a:srcRect l="19895" t="0" r="19895" b="0"/>
          <a:stretch/>
        </p:blipFill>
        <p:spPr>
          <a:xfrm>
            <a:off x="6372360" y="0"/>
            <a:ext cx="2771640" cy="6858000"/>
          </a:xfrm>
          <a:prstGeom prst="rect">
            <a:avLst/>
          </a:prstGeom>
          <a:ln w="0">
            <a:noFill/>
          </a:ln>
        </p:spPr>
      </p:pic>
      <p:sp>
        <p:nvSpPr>
          <p:cNvPr id="339" name="1 Marcador de número de diapositiva"/>
          <p:cNvSpPr/>
          <p:nvPr/>
        </p:nvSpPr>
        <p:spPr>
          <a:xfrm>
            <a:off x="8639280" y="6356520"/>
            <a:ext cx="50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C7E14-625A-4E01-9E1A-49E4CC06F572}" type="slidenum">
              <a:rPr b="0" lang="es-ES_tradnl" sz="1100" spc="-1" strike="noStrike">
                <a:solidFill>
                  <a:srgbClr val="8c0052"/>
                </a:solidFill>
                <a:latin typeface="Segoe UI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02920" y="3863520"/>
            <a:ext cx="69138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ffffff"/>
                </a:solidFill>
                <a:latin typeface="Segoe UI"/>
              </a:rPr>
              <a:t>Título portada-Segoe UI 21</a:t>
            </a: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02920" y="4436640"/>
            <a:ext cx="698508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Segoe UI"/>
              </a:rPr>
              <a:t>Subtítulo portada-Segoe UI 16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1403280" y="5516280"/>
            <a:ext cx="288144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Segoe UI"/>
              </a:rPr>
              <a:t>Mes / Año-Segoe UI 16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1042560" y="1214280"/>
            <a:ext cx="510084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ffffff"/>
                </a:solidFill>
                <a:latin typeface="Segoe UI"/>
              </a:rPr>
              <a:t>Índice presentación-Segoe UI 21</a:t>
            </a:r>
            <a:endParaRPr b="1" lang="en-US" sz="21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1042560" y="2133720"/>
            <a:ext cx="59770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buClr>
                <a:srgbClr val="ffffff"/>
              </a:buClr>
              <a:buFont typeface="Segoe U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Segoe UI"/>
              </a:rPr>
              <a:t>Capítulo 1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>
              <a:spcBef>
                <a:spcPts val="400"/>
              </a:spcBef>
              <a:buClr>
                <a:srgbClr val="ffffff"/>
              </a:buClr>
              <a:buFont typeface="Segoe U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Segoe UI"/>
              </a:rPr>
              <a:t>Capítulo 2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>
              <a:spcBef>
                <a:spcPts val="400"/>
              </a:spcBef>
              <a:buClr>
                <a:srgbClr val="ffffff"/>
              </a:buClr>
              <a:buFont typeface="Segoe U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Segoe UI"/>
              </a:rPr>
              <a:t>Capítulo 3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>
              <a:spcBef>
                <a:spcPts val="400"/>
              </a:spcBef>
              <a:buClr>
                <a:srgbClr val="ffffff"/>
              </a:buClr>
              <a:buFont typeface="Segoe U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Segoe UI"/>
              </a:rPr>
              <a:t>Capítulo 4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>
              <a:spcBef>
                <a:spcPts val="400"/>
              </a:spcBef>
              <a:buClr>
                <a:srgbClr val="ffffff"/>
              </a:buClr>
              <a:buFont typeface="Segoe U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Segoe UI"/>
              </a:rPr>
              <a:t>Capítulo 5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55280" y="1125000"/>
            <a:ext cx="7201080" cy="30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0" spc="-1" strike="noStrike">
                <a:solidFill>
                  <a:srgbClr val="a0f5ff"/>
                </a:solidFill>
                <a:latin typeface="Segoe UI"/>
              </a:rPr>
              <a:t>1.</a:t>
            </a:r>
            <a:r>
              <a:rPr b="1" lang="es-ES_tradnl" sz="6000" spc="-1" strike="noStrike">
                <a:solidFill>
                  <a:srgbClr val="a0f5ff"/>
                </a:solidFill>
                <a:latin typeface="Segoe UI"/>
              </a:rPr>
              <a:t>-Segoe 200</a:t>
            </a:r>
            <a:endParaRPr b="1" lang="en-US" sz="60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042920" y="4367160"/>
            <a:ext cx="640872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ffffff"/>
                </a:solidFill>
                <a:latin typeface="Segoe UI"/>
              </a:rPr>
              <a:t>Título capítulo 1-Segoe 21</a:t>
            </a:r>
            <a:endParaRPr b="1" lang="en-US" sz="21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8c0052"/>
                </a:solidFill>
                <a:latin typeface="Segoe UI"/>
              </a:rPr>
              <a:t>Título nivel 1-Segoe UI 21</a:t>
            </a: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71280" y="1484280"/>
            <a:ext cx="698508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7f7f7f"/>
                </a:solidFill>
                <a:latin typeface="Segoe UI"/>
              </a:rPr>
              <a:t>Título nivel 2-Segoe UI 16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971280" y="2060640"/>
            <a:ext cx="69850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7f7f7f"/>
                </a:solidFill>
                <a:latin typeface="Segoe UI"/>
              </a:rPr>
              <a:t>Contenido-Segoe UI 16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 lvl="1" marL="743040" indent="-200160">
              <a:lnSpc>
                <a:spcPct val="100000"/>
              </a:lnSpc>
              <a:spcBef>
                <a:spcPts val="4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7f7f7f"/>
                </a:solidFill>
                <a:latin typeface="Segoe UI"/>
              </a:rPr>
              <a:t>Enumeración contenido 1-Segoe UI 1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00160">
              <a:lnSpc>
                <a:spcPct val="100000"/>
              </a:lnSpc>
              <a:spcBef>
                <a:spcPts val="4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7f7f7f"/>
                </a:solidFill>
                <a:latin typeface="Segoe UI"/>
              </a:rPr>
              <a:t>Enumeración contenido 2-Segoe UI 1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00160">
              <a:lnSpc>
                <a:spcPct val="100000"/>
              </a:lnSpc>
              <a:spcBef>
                <a:spcPts val="4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7f7f7f"/>
                </a:solidFill>
                <a:latin typeface="Segoe UI"/>
              </a:rPr>
              <a:t>Enumeración contenido 3-Segoe UI 1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00160">
              <a:lnSpc>
                <a:spcPct val="100000"/>
              </a:lnSpc>
              <a:spcBef>
                <a:spcPts val="4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7f7f7f"/>
                </a:solidFill>
                <a:latin typeface="Segoe UI"/>
              </a:rPr>
              <a:t>Enumeración contenido 4-Segoe UI 1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00160">
              <a:lnSpc>
                <a:spcPct val="100000"/>
              </a:lnSpc>
              <a:spcBef>
                <a:spcPts val="4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7f7f7f"/>
                </a:solidFill>
                <a:latin typeface="Segoe UI"/>
              </a:rPr>
              <a:t>Enumeración contenido 5-Segoe UI 1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4 Marcador de número de diapositiva"/>
          <p:cNvSpPr/>
          <p:nvPr/>
        </p:nvSpPr>
        <p:spPr>
          <a:xfrm>
            <a:off x="8388360" y="6356520"/>
            <a:ext cx="50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554F9-6EF6-4A3D-ABFB-5A2EDEF487BD}" type="slidenum">
              <a:rPr b="0" lang="es-ES_tradnl" sz="1100" spc="-1" strike="noStrike">
                <a:solidFill>
                  <a:srgbClr val="8c0052"/>
                </a:solidFill>
                <a:latin typeface="Segoe UI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5640" y="642600"/>
            <a:ext cx="36720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8c0052"/>
                </a:solidFill>
                <a:latin typeface="Segoe UI"/>
              </a:rPr>
              <a:t>Título nivel 1-Segoe UI 21</a:t>
            </a: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71640" y="1484280"/>
            <a:ext cx="345600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7f7f7f"/>
                </a:solidFill>
                <a:latin typeface="Segoe UI"/>
              </a:rPr>
              <a:t>Titulo nivel 2-Segoe UI 16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971640" y="2060640"/>
            <a:ext cx="34560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7f7f7f"/>
                </a:solidFill>
                <a:latin typeface="Segoe UI"/>
              </a:rPr>
              <a:t>Contenido-Segoe UI 16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pic>
        <p:nvPicPr>
          <p:cNvPr id="354" name="9 Marcador de posición de imagen" descr="34566165.jpg"/>
          <p:cNvPicPr/>
          <p:nvPr/>
        </p:nvPicPr>
        <p:blipFill>
          <a:blip r:embed="rId1"/>
          <a:srcRect l="13675" t="0" r="13675" b="0"/>
          <a:stretch/>
        </p:blipFill>
        <p:spPr>
          <a:xfrm>
            <a:off x="4859280" y="0"/>
            <a:ext cx="3313080" cy="6858000"/>
          </a:xfrm>
          <a:prstGeom prst="rect">
            <a:avLst/>
          </a:prstGeom>
          <a:ln w="0">
            <a:noFill/>
          </a:ln>
        </p:spPr>
      </p:pic>
      <p:sp>
        <p:nvSpPr>
          <p:cNvPr id="355" name="4 Marcador de número de diapositiva"/>
          <p:cNvSpPr/>
          <p:nvPr/>
        </p:nvSpPr>
        <p:spPr>
          <a:xfrm>
            <a:off x="8388360" y="6356520"/>
            <a:ext cx="50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51BA6-CB9C-4CF2-B03F-BD161F4DA68D}" type="slidenum">
              <a:rPr b="0" lang="es-ES_tradnl" sz="1100" spc="-1" strike="noStrike">
                <a:solidFill>
                  <a:srgbClr val="8c0052"/>
                </a:solidFill>
                <a:latin typeface="Segoe UI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8c0052"/>
                </a:solidFill>
                <a:latin typeface="Segoe UI"/>
              </a:rPr>
              <a:t>Titulo nivel 1-Segoe UI 21</a:t>
            </a: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357" name="1 Marcador de número de diapositiva"/>
          <p:cNvSpPr/>
          <p:nvPr/>
        </p:nvSpPr>
        <p:spPr>
          <a:xfrm>
            <a:off x="8388360" y="6356520"/>
            <a:ext cx="50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DB26D-D7FD-4DB6-B9CC-83FBCE833925}" type="slidenum">
              <a:rPr b="0" lang="es-ES_tradnl" sz="1100" spc="-1" strike="noStrike">
                <a:solidFill>
                  <a:srgbClr val="8c0052"/>
                </a:solidFill>
                <a:latin typeface="Segoe UI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71280" y="1341360"/>
            <a:ext cx="698508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7f7f7f"/>
                </a:solidFill>
                <a:latin typeface="Segoe UI"/>
              </a:rPr>
              <a:t>Tabla-Segoe UI 16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971640" y="1844640"/>
          <a:ext cx="6985080" cy="4103640"/>
        </p:xfrm>
        <a:graphic>
          <a:graphicData uri="http://schemas.openxmlformats.org/drawingml/2006/table">
            <a:tbl>
              <a:tblPr/>
              <a:tblGrid>
                <a:gridCol w="1396800"/>
                <a:gridCol w="1397160"/>
                <a:gridCol w="1396800"/>
                <a:gridCol w="1397160"/>
                <a:gridCol w="1397160"/>
              </a:tblGrid>
              <a:tr h="512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7f7f7f"/>
                          </a:solidFill>
                          <a:latin typeface="Segoe UI"/>
                          <a:ea typeface="Segoe UI"/>
                        </a:rPr>
                        <a:t>Da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7f7f7f"/>
                          </a:solidFill>
                          <a:latin typeface="Segoe UI"/>
                          <a:ea typeface="Segoe UI"/>
                        </a:rPr>
                        <a:t>Cif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f5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7f7f7f"/>
                          </a:solidFill>
                          <a:latin typeface="Segoe UI"/>
                          <a:ea typeface="Segoe UI"/>
                        </a:rPr>
                        <a:t>Cif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cdd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Segoe UI"/>
                          <a:ea typeface="Segoe UI"/>
                        </a:rPr>
                        <a:t>Cif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c005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Segoe UI"/>
                          <a:ea typeface="Segoe UI"/>
                        </a:rPr>
                        <a:t>Cif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513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7f7f7f"/>
                          </a:solidFill>
                          <a:latin typeface="Segoe UI"/>
                          <a:ea typeface="Segoe UI"/>
                        </a:rPr>
                        <a:t>Da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7f7f7f"/>
                          </a:solidFill>
                          <a:latin typeface="Segoe UI"/>
                          <a:ea typeface="Segoe UI"/>
                        </a:rPr>
                        <a:t>Cif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f5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7f7f7f"/>
                          </a:solidFill>
                          <a:latin typeface="Segoe UI"/>
                          <a:ea typeface="Segoe UI"/>
                        </a:rPr>
                        <a:t>Cif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cdd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Segoe UI"/>
                          <a:ea typeface="Segoe UI"/>
                        </a:rPr>
                        <a:t>Cif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c005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Segoe UI"/>
                          <a:ea typeface="Segoe UI"/>
                        </a:rPr>
                        <a:t>Cif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512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7f7f7f"/>
                          </a:solidFill>
                          <a:latin typeface="Segoe UI"/>
                          <a:ea typeface="Segoe UI"/>
                        </a:rPr>
                        <a:t>Da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7f7f7f"/>
                          </a:solidFill>
                          <a:latin typeface="Segoe UI"/>
                          <a:ea typeface="Segoe UI"/>
                        </a:rPr>
                        <a:t>Cif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f5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7f7f7f"/>
                          </a:solidFill>
                          <a:latin typeface="Segoe UI"/>
                          <a:ea typeface="Segoe UI"/>
                        </a:rPr>
                        <a:t>Cif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cdd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Segoe UI"/>
                          <a:ea typeface="Segoe UI"/>
                        </a:rPr>
                        <a:t>Cif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c005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Segoe UI"/>
                          <a:ea typeface="Segoe UI"/>
                        </a:rPr>
                        <a:t>Cif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514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7f7f7f"/>
                          </a:solidFill>
                          <a:latin typeface="Segoe UI"/>
                          <a:ea typeface="Segoe UI"/>
                        </a:rPr>
                        <a:t>Da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7f7f7f"/>
                          </a:solidFill>
                          <a:latin typeface="Segoe UI"/>
                          <a:ea typeface="Segoe UI"/>
                        </a:rPr>
                        <a:t>Cif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f5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7f7f7f"/>
                          </a:solidFill>
                          <a:latin typeface="Segoe UI"/>
                          <a:ea typeface="Segoe UI"/>
                        </a:rPr>
                        <a:t>Cif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cdd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Segoe UI"/>
                          <a:ea typeface="Segoe UI"/>
                        </a:rPr>
                        <a:t>Cif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c005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Segoe UI"/>
                          <a:ea typeface="Segoe UI"/>
                        </a:rPr>
                        <a:t>Cif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512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7f7f7f"/>
                          </a:solidFill>
                          <a:latin typeface="Segoe UI"/>
                          <a:ea typeface="Segoe UI"/>
                        </a:rPr>
                        <a:t>Da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7f7f7f"/>
                          </a:solidFill>
                          <a:latin typeface="Segoe UI"/>
                          <a:ea typeface="Segoe UI"/>
                        </a:rPr>
                        <a:t>Cif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f5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7f7f7f"/>
                          </a:solidFill>
                          <a:latin typeface="Segoe UI"/>
                          <a:ea typeface="Segoe UI"/>
                        </a:rPr>
                        <a:t>Cif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cdd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Segoe UI"/>
                          <a:ea typeface="Segoe UI"/>
                        </a:rPr>
                        <a:t>Cif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c005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Segoe UI"/>
                          <a:ea typeface="Segoe UI"/>
                        </a:rPr>
                        <a:t>Cif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513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7f7f7f"/>
                          </a:solidFill>
                          <a:latin typeface="Segoe UI"/>
                          <a:ea typeface="Segoe UI"/>
                        </a:rPr>
                        <a:t>Da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7f7f7f"/>
                          </a:solidFill>
                          <a:latin typeface="Segoe UI"/>
                          <a:ea typeface="Segoe UI"/>
                        </a:rPr>
                        <a:t>Cif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f5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7f7f7f"/>
                          </a:solidFill>
                          <a:latin typeface="Segoe UI"/>
                          <a:ea typeface="Segoe UI"/>
                        </a:rPr>
                        <a:t>Cif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cdd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Segoe UI"/>
                          <a:ea typeface="Segoe UI"/>
                        </a:rPr>
                        <a:t>Cif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c005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Segoe UI"/>
                          <a:ea typeface="Segoe UI"/>
                        </a:rPr>
                        <a:t>Cif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512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7f7f7f"/>
                          </a:solidFill>
                          <a:latin typeface="Segoe UI"/>
                          <a:ea typeface="Segoe UI"/>
                        </a:rPr>
                        <a:t>Da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7f7f7f"/>
                          </a:solidFill>
                          <a:latin typeface="Segoe UI"/>
                          <a:ea typeface="Segoe UI"/>
                        </a:rPr>
                        <a:t>Cif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f5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7f7f7f"/>
                          </a:solidFill>
                          <a:latin typeface="Segoe UI"/>
                          <a:ea typeface="Segoe UI"/>
                        </a:rPr>
                        <a:t>Cif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cdd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Segoe UI"/>
                          <a:ea typeface="Segoe UI"/>
                        </a:rPr>
                        <a:t>Cif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c005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Segoe UI"/>
                          <a:ea typeface="Segoe UI"/>
                        </a:rPr>
                        <a:t>Cif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512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7f7f7f"/>
                          </a:solidFill>
                          <a:latin typeface="Segoe UI"/>
                          <a:ea typeface="Segoe UI"/>
                        </a:rPr>
                        <a:t>Da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7f7f7f"/>
                          </a:solidFill>
                          <a:latin typeface="Segoe UI"/>
                          <a:ea typeface="Segoe UI"/>
                        </a:rPr>
                        <a:t>Cif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0f5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7f7f7f"/>
                          </a:solidFill>
                          <a:latin typeface="Segoe UI"/>
                          <a:ea typeface="Segoe UI"/>
                        </a:rPr>
                        <a:t>Cif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cdd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Segoe UI"/>
                          <a:ea typeface="Segoe UI"/>
                        </a:rPr>
                        <a:t>Cif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c005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Segoe UI"/>
                          <a:ea typeface="Segoe UI"/>
                        </a:rPr>
                        <a:t>Cif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8c0052"/>
                </a:solidFill>
                <a:latin typeface="Segoe UI"/>
              </a:rPr>
              <a:t>Título nivel 1-Segoe UI 21</a:t>
            </a: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361" name="2 Marcador de número de diapositiva"/>
          <p:cNvSpPr/>
          <p:nvPr/>
        </p:nvSpPr>
        <p:spPr>
          <a:xfrm>
            <a:off x="8388360" y="6356520"/>
            <a:ext cx="50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2C6CD-4F08-46EA-83D7-A584E50320D4}" type="slidenum">
              <a:rPr b="0" lang="es-ES_tradnl" sz="1100" spc="-1" strike="noStrike">
                <a:solidFill>
                  <a:srgbClr val="8c0052"/>
                </a:solidFill>
                <a:latin typeface="Segoe UI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71280" y="1341360"/>
            <a:ext cx="698508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7f7f7f"/>
                </a:solidFill>
                <a:latin typeface="Segoe UI"/>
              </a:rPr>
              <a:t>Gráfica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pic>
        <p:nvPicPr>
          <p:cNvPr id="363" name="5 Marcador de gráfico" descr=""/>
          <p:cNvPicPr/>
          <p:nvPr/>
        </p:nvPicPr>
        <p:blipFill>
          <a:blip r:embed="rId1"/>
          <a:stretch/>
        </p:blipFill>
        <p:spPr>
          <a:xfrm>
            <a:off x="971640" y="2565360"/>
            <a:ext cx="6985080" cy="3600360"/>
          </a:xfrm>
          <a:prstGeom prst="rect">
            <a:avLst/>
          </a:prstGeom>
          <a:ln w="0">
            <a:noFill/>
          </a:ln>
        </p:spPr>
      </p:pic>
      <p:sp>
        <p:nvSpPr>
          <p:cNvPr id="364" name="5 CuadroTexto"/>
          <p:cNvSpPr/>
          <p:nvPr/>
        </p:nvSpPr>
        <p:spPr>
          <a:xfrm>
            <a:off x="1413360" y="180036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8c0052"/>
                </a:solidFill>
                <a:latin typeface="Segoe UI"/>
                <a:ea typeface="Segoe UI"/>
              </a:rPr>
              <a:t>20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6 CuadroTexto"/>
          <p:cNvSpPr/>
          <p:nvPr/>
        </p:nvSpPr>
        <p:spPr>
          <a:xfrm>
            <a:off x="5924880" y="180036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7f7f7f"/>
                </a:solidFill>
                <a:latin typeface="Segoe UI"/>
                <a:ea typeface="Segoe UI"/>
              </a:rPr>
              <a:t>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8 Conector recto"/>
          <p:cNvSpPr/>
          <p:nvPr/>
        </p:nvSpPr>
        <p:spPr>
          <a:xfrm>
            <a:off x="1403280" y="2421000"/>
            <a:ext cx="5761080" cy="0"/>
          </a:xfrm>
          <a:prstGeom prst="line">
            <a:avLst/>
          </a:prstGeom>
          <a:ln w="9360">
            <a:solidFill>
              <a:srgbClr val="8c00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14:25:41Z</dcterms:created>
  <dc:creator>BLC Comunicación</dc:creator>
  <dc:description/>
  <dc:language>en-US</dc:language>
  <cp:lastModifiedBy>Arthur</cp:lastModifiedBy>
  <dcterms:modified xsi:type="dcterms:W3CDTF">2022-03-21T01:21:29Z</dcterms:modified>
  <cp:revision>975</cp:revision>
  <dc:subject/>
  <dc:title>Diapositiva 1</dc:title>
</cp:coreProperties>
</file>